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7EB-B3F5-49DD-85B1-EE90D57D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6FE-7461-4A2C-9C0A-0BD1B46C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ADDA-BFA1-45CE-ACAE-16238EB0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CCE-E057-4679-B48B-12018BDB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0654-89E5-4673-B09E-D1EC8331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826-C0BD-4B23-856C-2DA8A64A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369-DCEE-4639-8ACF-2974162C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FC0-F101-4930-96C3-DA4139B1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E2E-8C4B-4CB6-869B-130FAA86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C14-4043-42AA-AEAA-23817956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768-F153-4A00-8748-98D1416D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ABF-6AEC-4FBF-B2D4-6F621C35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A8FC-5016-47C8-A298-479D56DC2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Neural and Hormonal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55480" y="1347840"/>
            <a:ext cx="8026560" cy="4165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68580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s of the Nervous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5878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55480" y="1474920"/>
            <a:ext cx="8026560" cy="39114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imple Ref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698480" y="712800"/>
            <a:ext cx="5740560" cy="54356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jor Endocrine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ral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Neurons Commun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55480" y="1297080"/>
            <a:ext cx="8026560" cy="4267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otor Neu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Neurotransmitters Influenc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orph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rugs and Other Chemicals Alter Neuro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4720" y="789120"/>
            <a:ext cx="8128080" cy="5283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Neurons Communic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49560" y="763560"/>
            <a:ext cx="4838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79720" y="763560"/>
            <a:ext cx="4978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55480" y="1017720"/>
            <a:ext cx="8026560" cy="4825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6858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onists and Antagon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ipheral Nervous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entral Nervous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nal Cord and B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17:52:30Z</dcterms:created>
  <dc:creator>bfw</dc:creator>
  <dc:description/>
  <dc:language>en-US</dc:language>
  <cp:lastModifiedBy>MacAdmin Kis</cp:lastModifiedBy>
  <dcterms:modified xsi:type="dcterms:W3CDTF">2008-08-19T10:40:37Z</dcterms:modified>
  <cp:revision>7</cp:revision>
  <dc:subject/>
  <dc:title>Module 3</dc:title>
</cp:coreProperties>
</file>